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740-1476-4711-9429-329326CB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110-5B36-4AAA-9342-86365AA5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ACB-3BBF-414B-A820-97D35C8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4CE-476B-4651-B220-5A1787F1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568-1C89-4B58-A959-38C2590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4FF-BB2F-46A6-BC34-CE63391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7CE-EBB9-4DA5-9D56-BC3D1050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07E-F556-4E31-AF58-33CE6B4E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D44-FABF-4E16-B579-E1CA000F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711-18C0-4919-A793-BD8DD63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EE6-90A7-499D-8A71-6F31E8E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00E-B7FB-4DA0-8BEA-96E19E9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5BC-B27D-4A6D-B5EF-AAE36A7B8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 NOTES:  Dave Pel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roduct Image"/>
          <p:cNvPicPr/>
          <p:nvPr/>
        </p:nvPicPr>
        <p:blipFill>
          <a:blip r:embed="rId1"/>
          <a:stretch/>
        </p:blipFill>
        <p:spPr>
          <a:xfrm rot="21306600">
            <a:off x="304560" y="1653840"/>
            <a:ext cx="358128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28954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owerpoint  to Collect and Organize Your Not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 minim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or mor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turn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return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turn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is his life lik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bout Dave Pelzer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ve Pelzer - The Offici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p., n.d. Web. 7 Feb. 20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davepelzer.com/abou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zer, David J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hild called "it": an abused child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ey from victim to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erfield Be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.: Health Communications, 1995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o TAG – What kind of a hero is Pelzer according to Bar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hero, what counts is character.  For a celebrity, what counts is fame.” (Barr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lzer - blend of survivor hero and hero wi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ivor Hero:  a person who overcomes a major  survival experience such as a plane disaster, accident, or act of terrorism  &gt; &gt; &gt; relates to a person’s will to live (Barron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o Within:   a person  who overcomes a major battle within himself/herself &gt; &gt; &gt; relates to a personal challenge such as a physical challenge, illness, addiction, depression  (self rescue) (Barron 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ly, mentally, verbally, and emotionally abused by his alcoholic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ed with small disciplinary consequences (sitting in the corner) and changed to burns and bruises (Pelzer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pping my arm, Mother held it in the orange-blue flame. My skin seemed toe explode from the heat.  I could smell the scorched hairs from my burnt arm.” (Pelzer 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 gradually came from his brothers also; took advantage of him and viewed him as a family slave with continual bullying (Pelzer 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y approached me, my heart became hard as tone, and I am sure that they saw the hate etched in my face.” (Pelzer 1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adul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he Air Force at age 18; flew plans that refueled the SR-71 Blackbird and f-117 Stealth Fighters, both used in highly secretive military operations in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to deal with the consequences of his abuse as an adult and had a goal of making himself a better person (“All About Dave Pelzer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overcome his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was his life different after the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did he learn abou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oes he pay it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5:46Z</dcterms:created>
  <dc:creator>jtunison</dc:creator>
  <dc:description/>
  <dc:language>en-US</dc:language>
  <cp:lastModifiedBy>jtunison</cp:lastModifiedBy>
  <dcterms:modified xsi:type="dcterms:W3CDTF">2013-02-12T14:44:52Z</dcterms:modified>
  <cp:revision>5</cp:revision>
  <dc:subject/>
  <dc:title>Challenges  –  What were his challenges?</dc:title>
</cp:coreProperties>
</file>